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802-7811-4162-B699-9B402063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C71-44BC-42CF-AE77-1766597A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267-867C-44CF-AC6F-6BB7A403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BB4-9F44-4E16-903C-1AEFC8C7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D16-7A97-454F-84A3-30C8416E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751-C7A0-4AD2-8B75-3026CCF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5AD-01A8-40F5-94E7-1E9156F2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BBE-1B14-4B7C-A46F-F3E66A84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62D-67A9-4028-83C6-F5FF2761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9EE-A4E8-4E89-8B42-8650BFB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C9F-07D5-4731-8BA2-84FBEC29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BB0-A828-4480-8CD9-AF183583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AA8-B7AE-4638-A80E-DB459EE36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ember 5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51402" t="8520" r="7897" b="69114"/>
          <a:stretch/>
        </p:blipFill>
        <p:spPr>
          <a:xfrm>
            <a:off x="76320" y="152280"/>
            <a:ext cx="4314600" cy="312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rcRect l="5086" t="58525" r="0" b="6326"/>
          <a:stretch/>
        </p:blipFill>
        <p:spPr>
          <a:xfrm>
            <a:off x="181080" y="3809880"/>
            <a:ext cx="515304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rcRect l="6492" t="0" r="16319" b="63850"/>
          <a:stretch/>
        </p:blipFill>
        <p:spPr>
          <a:xfrm>
            <a:off x="4648320" y="995400"/>
            <a:ext cx="41907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people of the New England colonies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4"/>
          <p:cNvSpPr/>
          <p:nvPr/>
        </p:nvSpPr>
        <p:spPr>
          <a:xfrm>
            <a:off x="228600" y="36576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people of the Middle Colonies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4"/>
          <p:cNvSpPr/>
          <p:nvPr/>
        </p:nvSpPr>
        <p:spPr>
          <a:xfrm>
            <a:off x="152280" y="5181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people of the Southern Colonies famou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7400" y="2285640"/>
            <a:ext cx="4952880" cy="259092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People of th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w England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ddle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uthern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cial Stud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pter 5 and 6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ps.ablongman.com/wps/media/objects/1483/1518969/DIVI085.jpg"/>
          <p:cNvPicPr/>
          <p:nvPr/>
        </p:nvPicPr>
        <p:blipFill>
          <a:blip r:embed="rId2"/>
          <a:stretch/>
        </p:blipFill>
        <p:spPr>
          <a:xfrm>
            <a:off x="1371600" y="0"/>
            <a:ext cx="62485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rteen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___________ and _________of the thirteen colonies affected how _______ __________ and _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________ had poor _____ and a ______ climate, but plenty of _______ and 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_______ Colonies had ______ soil, a warmer ______, and ______ for ___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________ Colonies had an even warmer climate and many _________ in the 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rcRect l="48598" t="2129" r="6492" b="30760"/>
          <a:stretch/>
        </p:blipFill>
        <p:spPr>
          <a:xfrm>
            <a:off x="533520" y="1219320"/>
            <a:ext cx="28191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272880"/>
            <a:ext cx="327672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ople of the New England Colo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new england.gif"/>
          <p:cNvPicPr/>
          <p:nvPr/>
        </p:nvPicPr>
        <p:blipFill>
          <a:blip r:embed="rId1"/>
          <a:srcRect l="8063" t="40015" r="45163" b="7348"/>
          <a:stretch/>
        </p:blipFill>
        <p:spPr>
          <a:xfrm>
            <a:off x="380880" y="2185920"/>
            <a:ext cx="3048120" cy="4519800"/>
          </a:xfrm>
          <a:prstGeom prst="rect">
            <a:avLst/>
          </a:prstGeom>
          <a:ln w="0">
            <a:noFill/>
          </a:ln>
        </p:spPr>
      </p:pic>
      <p:sp>
        <p:nvSpPr>
          <p:cNvPr id="54" name="Content Placeholder 6"/>
          <p:cNvSpPr/>
          <p:nvPr/>
        </p:nvSpPr>
        <p:spPr>
          <a:xfrm>
            <a:off x="3429000" y="24300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 religion shaped the ___________ of the Massachusetts ________ Col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_________ thought that Puritan _______ should not tell them what to _____ or how to 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itans and American _________ fought over _____ in New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England colonists made a living by using _________ from the _______ and the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England colonists had to work _____ for things they ________ for everyday 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7897" t="33025" r="20529" b="47806"/>
          <a:stretch/>
        </p:blipFill>
        <p:spPr>
          <a:xfrm>
            <a:off x="914400" y="304920"/>
            <a:ext cx="690876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rcRect l="0" t="0" r="0" b="52134"/>
          <a:stretch/>
        </p:blipFill>
        <p:spPr>
          <a:xfrm>
            <a:off x="2057400" y="3052800"/>
            <a:ext cx="57913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eople of the Middle Colo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5" descr="middle.gif"/>
          <p:cNvPicPr/>
          <p:nvPr/>
        </p:nvPicPr>
        <p:blipFill>
          <a:blip r:embed="rId1"/>
          <a:srcRect l="4615" t="48717" r="40501" b="0"/>
          <a:stretch/>
        </p:blipFill>
        <p:spPr>
          <a:xfrm>
            <a:off x="-27000" y="1905120"/>
            <a:ext cx="3836880" cy="4724280"/>
          </a:xfrm>
          <a:prstGeom prst="rect">
            <a:avLst/>
          </a:prstGeom>
          <a:ln w="0">
            <a:noFill/>
          </a:ln>
        </p:spPr>
      </p:pic>
      <p:sp>
        <p:nvSpPr>
          <p:cNvPr id="62" name="Content Placeholder 6"/>
          <p:cNvSpPr/>
          <p:nvPr/>
        </p:nvSpPr>
        <p:spPr>
          <a:xfrm>
            <a:off x="3657600" y="14400"/>
            <a:ext cx="54864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lish settlement began in _____, when England captured the ______ colony of New ______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olonies of ________and New ________ belonged to English _________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lliam ____ founded Pennsylvania as a place where people could _________ freely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from many _________ and __________ lived in the Middle Colonie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people in the Middle Colonies ______ to earn a living, but ______ were important centers of 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rcRect l="0" t="0" r="0" b="61656"/>
          <a:stretch/>
        </p:blipFill>
        <p:spPr>
          <a:xfrm>
            <a:off x="-130320" y="838080"/>
            <a:ext cx="935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3657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eople of the Southern Colo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6" descr="southern.gif"/>
          <p:cNvPicPr/>
          <p:nvPr/>
        </p:nvPicPr>
        <p:blipFill>
          <a:blip r:embed="rId1"/>
          <a:srcRect l="6332" t="50015" r="40501" b="5722"/>
          <a:stretch/>
        </p:blipFill>
        <p:spPr>
          <a:xfrm>
            <a:off x="76320" y="1981080"/>
            <a:ext cx="382104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Content Placeholder 6"/>
          <p:cNvSpPr/>
          <p:nvPr/>
        </p:nvSpPr>
        <p:spPr>
          <a:xfrm>
            <a:off x="3809880" y="152280"/>
            <a:ext cx="5639040" cy="59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_________ was the largest and ________ English colony and had the first elected _______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_______ founded ______ more  colonies in the _______ during the 1600s and early 1700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______ grew very ____ in the Southern Colonie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uthern _______ were large  and needed many _______, but  most southern colonists lived on ______ family 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lavery was ______, but enslaved people developed a _______ that helped them ___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2-05T12:41:37Z</dcterms:modified>
  <cp:revision>40</cp:revision>
  <dc:subject/>
  <dc:title>Famous People Friday</dc:title>
</cp:coreProperties>
</file>